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E122-13D9-4C5B-94C4-AC922F75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CA37-730F-48EC-9B7B-2F7C64FA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4677-6021-4448-BB74-23FD0CAB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A08-3E1A-45B2-8326-3F6803F3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0050-29B0-4CFC-9807-F67115C4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9215-8B17-491A-9419-0ADA02D5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94F-0C61-4AA6-AA9C-5913825E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643-AC8B-4DBD-BDF4-A78D3522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EA1-18DD-4EB2-9675-4A02D996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9CCC-F68D-44B9-91B4-A2A189CC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B50E-C43B-4A4D-AD02-976330C3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657-54D3-49C2-AEB5-3229705B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EBF3-585D-48F9-B71B-8DEF50DAA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2725560" y="4941720"/>
            <a:ext cx="1256040" cy="1140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"/>
          <p:cNvSpPr/>
          <p:nvPr/>
        </p:nvSpPr>
        <p:spPr>
          <a:xfrm>
            <a:off x="2268360" y="2781360"/>
            <a:ext cx="1314720" cy="119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4859280" y="2536920"/>
            <a:ext cx="1314360" cy="1252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5302080" y="4826160"/>
            <a:ext cx="1314720" cy="119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3978360" y="5229360"/>
            <a:ext cx="1314360" cy="1139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 flipH="1" flipV="1">
            <a:off x="5365800" y="616572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V="1">
            <a:off x="3930480" y="6163920"/>
            <a:ext cx="136800" cy="19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2241720" y="5518080"/>
            <a:ext cx="403200" cy="19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1224000" y="191628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900000" y="256392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6191280" y="174312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6912000" y="260676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7020000" y="605628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1728720" y="634680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3600360" y="640080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389240" y="5337000"/>
            <a:ext cx="806400" cy="3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7121520" y="540720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5148360" y="634680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2058840" y="2301840"/>
            <a:ext cx="35244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1720800" y="2771640"/>
            <a:ext cx="403200" cy="4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 flipH="1">
            <a:off x="5867280" y="2224080"/>
            <a:ext cx="20160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 flipH="1">
            <a:off x="6302160" y="2874960"/>
            <a:ext cx="352440" cy="4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 flipH="1" flipV="1">
            <a:off x="6616800" y="5300640"/>
            <a:ext cx="425520" cy="17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5"/>
          <p:cNvSpPr/>
          <p:nvPr/>
        </p:nvSpPr>
        <p:spPr>
          <a:xfrm flipH="1" flipV="1">
            <a:off x="6587640" y="5840280"/>
            <a:ext cx="303480" cy="19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6"/>
          <p:cNvSpPr/>
          <p:nvPr/>
        </p:nvSpPr>
        <p:spPr>
          <a:xfrm flipV="1">
            <a:off x="2490840" y="6092640"/>
            <a:ext cx="352440" cy="19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995640" y="3932280"/>
            <a:ext cx="1108080" cy="988920"/>
          </a:xfrm>
          <a:custGeom>
            <a:avLst/>
            <a:gdLst>
              <a:gd name="textAreaLeft" fmla="*/ 148320 w 1108080"/>
              <a:gd name="textAreaRight" fmla="*/ 959760 w 1108080"/>
              <a:gd name="textAreaTop" fmla="*/ 172800 h 988920"/>
              <a:gd name="textAreaBottom" fmla="*/ 717120 h 9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7956720" y="260280"/>
            <a:ext cx="93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KU-ER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6732720" y="6437160"/>
            <a:ext cx="22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วันที่ประเมิน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0"/>
          <p:cNvSpPr/>
          <p:nvPr/>
        </p:nvSpPr>
        <p:spPr>
          <a:xfrm>
            <a:off x="3506760" y="2319480"/>
            <a:ext cx="1314360" cy="119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1"/>
          <p:cNvSpPr/>
          <p:nvPr/>
        </p:nvSpPr>
        <p:spPr>
          <a:xfrm>
            <a:off x="4788000" y="167796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2"/>
          <p:cNvSpPr/>
          <p:nvPr/>
        </p:nvSpPr>
        <p:spPr>
          <a:xfrm>
            <a:off x="2700360" y="171288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3"/>
          <p:cNvSpPr/>
          <p:nvPr/>
        </p:nvSpPr>
        <p:spPr>
          <a:xfrm flipH="1">
            <a:off x="4500360" y="207324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4"/>
          <p:cNvSpPr/>
          <p:nvPr/>
        </p:nvSpPr>
        <p:spPr>
          <a:xfrm>
            <a:off x="3492360" y="2000160"/>
            <a:ext cx="28908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5"/>
          <p:cNvSpPr/>
          <p:nvPr/>
        </p:nvSpPr>
        <p:spPr>
          <a:xfrm>
            <a:off x="5651640" y="3616200"/>
            <a:ext cx="1314360" cy="119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7364520" y="436392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7272360" y="350028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8"/>
          <p:cNvSpPr/>
          <p:nvPr/>
        </p:nvSpPr>
        <p:spPr>
          <a:xfrm flipH="1">
            <a:off x="6883200" y="3500280"/>
            <a:ext cx="35244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9"/>
          <p:cNvSpPr/>
          <p:nvPr/>
        </p:nvSpPr>
        <p:spPr>
          <a:xfrm flipH="1" flipV="1">
            <a:off x="6989760" y="4309920"/>
            <a:ext cx="303120" cy="19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0"/>
          <p:cNvSpPr/>
          <p:nvPr/>
        </p:nvSpPr>
        <p:spPr>
          <a:xfrm>
            <a:off x="1860480" y="4005360"/>
            <a:ext cx="1314360" cy="119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1"/>
          <p:cNvSpPr/>
          <p:nvPr/>
        </p:nvSpPr>
        <p:spPr>
          <a:xfrm>
            <a:off x="749160" y="350028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2"/>
          <p:cNvSpPr/>
          <p:nvPr/>
        </p:nvSpPr>
        <p:spPr>
          <a:xfrm>
            <a:off x="539640" y="447372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3"/>
          <p:cNvSpPr/>
          <p:nvPr/>
        </p:nvSpPr>
        <p:spPr>
          <a:xfrm>
            <a:off x="1584360" y="3886200"/>
            <a:ext cx="35244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4"/>
          <p:cNvSpPr/>
          <p:nvPr/>
        </p:nvSpPr>
        <p:spPr>
          <a:xfrm>
            <a:off x="1360440" y="4681440"/>
            <a:ext cx="403200" cy="4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5"/>
          <p:cNvSpPr/>
          <p:nvPr/>
        </p:nvSpPr>
        <p:spPr>
          <a:xfrm>
            <a:off x="2475000" y="282240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6"/>
          <p:cNvSpPr/>
          <p:nvPr/>
        </p:nvSpPr>
        <p:spPr>
          <a:xfrm>
            <a:off x="3736800" y="233352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7"/>
          <p:cNvSpPr/>
          <p:nvPr/>
        </p:nvSpPr>
        <p:spPr>
          <a:xfrm>
            <a:off x="5118120" y="252396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8"/>
          <p:cNvSpPr/>
          <p:nvPr/>
        </p:nvSpPr>
        <p:spPr>
          <a:xfrm>
            <a:off x="5911920" y="365760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9"/>
          <p:cNvSpPr/>
          <p:nvPr/>
        </p:nvSpPr>
        <p:spPr>
          <a:xfrm>
            <a:off x="5605560" y="482616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0"/>
          <p:cNvSpPr/>
          <p:nvPr/>
        </p:nvSpPr>
        <p:spPr>
          <a:xfrm>
            <a:off x="4254480" y="522936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1"/>
          <p:cNvSpPr/>
          <p:nvPr/>
        </p:nvSpPr>
        <p:spPr>
          <a:xfrm>
            <a:off x="3016080" y="494028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2"/>
          <p:cNvSpPr/>
          <p:nvPr/>
        </p:nvSpPr>
        <p:spPr>
          <a:xfrm>
            <a:off x="2138400" y="404820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3"/>
          <p:cNvSpPr/>
          <p:nvPr/>
        </p:nvSpPr>
        <p:spPr>
          <a:xfrm>
            <a:off x="685800" y="24444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แผนภาพ  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RISK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br>
              <a:rPr sz="2800"/>
            </a:b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ส่วนงาน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หน่วยงาน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....................................................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ยุทธศาสตร์ที่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...................................................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งาน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/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โครงการ 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.....................................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ความเสี่ยง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5:05:10Z</dcterms:created>
  <dc:creator>ICT IBM PC</dc:creator>
  <dc:description/>
  <dc:language>en-US</dc:language>
  <cp:lastModifiedBy>ocs</cp:lastModifiedBy>
  <cp:lastPrinted>2017-10-10T10:18:23Z</cp:lastPrinted>
  <dcterms:modified xsi:type="dcterms:W3CDTF">2017-10-10T10:18:30Z</dcterms:modified>
  <cp:revision>37</cp:revision>
  <dc:subject/>
  <dc:title>KEY  PROCESS</dc:title>
</cp:coreProperties>
</file>